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8.png" ContentType="image/png"/>
  <Override PartName="/ppt/media/image12.wmf" ContentType="image/x-wmf"/>
  <Override PartName="/ppt/media/image9.png" ContentType="image/png"/>
  <Override PartName="/ppt/media/image13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DC84C-EBF7-47DB-A670-57AB58B2F362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Según lo que solían decir los economistas la estrategia ideal es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Según lo que solían decir los economistas la estrategia ideal es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l 44% de nuestras exportaciones a EE.UU. son manufactur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E.UU. absorbe el 40% de nuestras exportaciones de manufactur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Cabe destacar que la pobreza se redujo del </a:t>
            </a:r>
            <a:r>
              <a:rPr b="0" lang="es-ES" sz="1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8% de la población en 1992 al 26% en el 2000. El ajuste ante la Crisis del Tequila también fue rápido en términos de pobreza: de 43% en 1995 se pasó a 35% en 1996 (tan solo en un añ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Verdana"/>
              </a:rPr>
              <a:t>Como se puede ver, a partir de 1994 el desempleo ha presentado una tendencia decrecient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Verdana"/>
              </a:rPr>
              <a:t>Este se ajustó rápidamente tras la Crisis del Tequila y luego de 1998, llegó a los niveles más bajos desde 1987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Verdana"/>
              </a:rPr>
              <a:t>El NAFTA también permitió un rápido ajuste de los salarios reales tras dicha crisi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Verdana"/>
              </a:rPr>
              <a:t>Mayores salarios en el sector exportador y también en el que compite con las importacion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Según lo que solían decir los economistas la estrategia ideal es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Apertura Comercial: promover competitivida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Reducción significativa de aranceles y demás restriccion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Trato no discriminatorio con empresas internacionales: atraer invers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n los 90 la inversión dio un salto, pero desde 1998 ha descendido, manteniéndose estable en los últimos año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Necesitamos mayores niveles de inversión si queremos crecer a un ritmo de 7%, por ejempl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l TLC abre las puertas a la inversión directa extranjer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258E-793F-4584-960C-1760D6FE3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3956-7C6F-42E9-B7E4-33E3AD13C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54FD-712F-49D4-93FA-1AFCAF28C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DEF5-9C6C-4E33-AF2F-430530A2F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001F6-CE08-4DD1-8037-56554D4DE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4F3DC-C7BA-4027-8284-308B4DCA9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B0861-FAD9-4FA1-B430-C39FD4B5A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69344-E377-4591-822C-E41C4D1AE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9246C-F357-4372-B9EE-54816C08F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6E140-6962-48E3-87AC-B6BD4D4EB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DCEAA-D2C0-4DCB-B839-D5EA2CAF3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AE2B-962C-497C-8FB1-34F95C995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CB9EF-D234-42F6-AE93-7831366AF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A1D4D-1983-4A01-BA9F-709D0B735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6942D-387A-42BE-B371-6AF2502C6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F287A-A15A-4B3A-9798-E63E888F9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B622E-6D23-4D4D-AA23-E816FF983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E1C0-86E5-41CE-8C3F-C4EB0E301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95B8-9153-4AC2-B84C-35264D50E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DA4B-62AE-47BF-86D6-7AC425E9A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7766-37A1-4B10-9D4C-2A88101F9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5AD1-71A8-4820-8A70-4E4404CFD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91C7-756D-41FF-A166-08F22BAFB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037C-C83A-4208-A0C0-4975D534E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d40026"/>
                </a:gs>
                <a:gs pos="100000">
                  <a:srgbClr val="88242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82424"/>
                </a:gs>
                <a:gs pos="100000">
                  <a:srgbClr val="d400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2B0ED-2C17-480C-8A0D-40E4838D4109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6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7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3300"/>
                </a:gs>
                <a:gs pos="50000">
                  <a:srgbClr val="ffffff"/>
                </a:gs>
                <a:gs pos="100000">
                  <a:srgbClr val="cc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d40026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3300"/>
                </a:gs>
                <a:gs pos="100000">
                  <a:srgbClr val="d4002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3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DCFD4-AF08-44B6-A45E-8103ACFF817A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042920" y="2205000"/>
            <a:ext cx="7705800" cy="20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25200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STRATEGIA DE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Liberalización unilateral gen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ahoma"/>
              </a:rPr>
              <a:t>Acuerdo Multilateral: OMC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cumulación de acuerdos regionales y bilater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0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54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500"/>
                            </p:stCondLst>
                            <p:childTnLst>
                              <p:par>
                                <p:cTn id="456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58" dur="500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62" dur="500"/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1500"/>
                            </p:stCondLst>
                            <p:childTnLst>
                              <p:par>
                                <p:cTn id="464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66" dur="500"/>
                                        <p:tgtEl>
                                          <p:spTgt spid="4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SISTEMA COMERCIO INTERNACION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GATT (1947) tuvo carácter provisional, solamente trataba reglas sobre reducción de aranceles de importa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Tarea reducción de aranceles de importación de productos industriales (excluido comercio agrícola y textil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Mecanismos de negociación Rond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1994 se crea la Organización Mundial de Comercio OM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rincipio básico no discriminació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12520" indent="-282960" algn="just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Naci</a:t>
            </a: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ón Más Favorecid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12520" indent="-282960" algn="just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Trato Nacion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0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73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500"/>
                            </p:stCondLst>
                            <p:childTnLst>
                              <p:par>
                                <p:cTn id="4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500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1000"/>
                            </p:stCondLst>
                            <p:childTnLst>
                              <p:par>
                                <p:cTn id="4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500"/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1500"/>
                            </p:stCondLst>
                            <p:childTnLst>
                              <p:par>
                                <p:cTn id="4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500"/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2000"/>
                            </p:stCondLst>
                            <p:childTnLst>
                              <p:par>
                                <p:cTn id="4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2500"/>
                            </p:stCondLst>
                            <p:childTnLst>
                              <p:par>
                                <p:cTn id="49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500"/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3000"/>
                            </p:stCondLst>
                            <p:childTnLst>
                              <p:par>
                                <p:cTn id="50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500"/>
                                        <p:tgtEl>
                                          <p:spTgt spid="4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4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4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3500"/>
                            </p:stCondLst>
                            <p:childTnLst>
                              <p:par>
                                <p:cTn id="51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4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4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4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RESULTADOS DEL GATT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447" name="" descr=""/>
          <p:cNvPicPr/>
          <p:nvPr/>
        </p:nvPicPr>
        <p:blipFill>
          <a:blip r:embed="rId1"/>
          <a:stretch/>
        </p:blipFill>
        <p:spPr>
          <a:xfrm>
            <a:off x="1835280" y="1666800"/>
            <a:ext cx="5721120" cy="45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0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22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PAISES MIEMBROS DE LA OMC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1"/>
          <a:stretch/>
        </p:blipFill>
        <p:spPr>
          <a:xfrm>
            <a:off x="971640" y="1906560"/>
            <a:ext cx="791676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0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29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500"/>
                            </p:stCondLst>
                            <p:childTnLst>
                              <p:par>
                                <p:cTn id="531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33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25200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STRATEGIA DE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Liberalización unilateral gen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cuerdo Multilateral: OMC – Cancú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ahoma"/>
              </a:rPr>
              <a:t>Acumulación de acuerdos regionales y bilater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0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40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500"/>
                            </p:stCondLst>
                            <p:childTnLst>
                              <p:par>
                                <p:cTn id="542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44" dur="500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1000"/>
                            </p:stCondLst>
                            <p:childTnLst>
                              <p:par>
                                <p:cTn id="546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48" dur="500"/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1500"/>
                            </p:stCondLst>
                            <p:childTnLst>
                              <p:par>
                                <p:cTn id="550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52" dur="500"/>
                                        <p:tgtEl>
                                          <p:spTgt spid="4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ompetitive liberalization: negociar bilateralmente para impulsar negociaciones en OM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nfrentar oposición en ALCA Brasil - Mercosu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onsideraciones geopolític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396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3960" indent="-190440" algn="just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etróle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3960" indent="-190440" algn="just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Terrorismo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3960" indent="-190440" algn="just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rog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INTERESES ESTRÁTEGICOS DE EEUU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0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59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500"/>
                            </p:stCondLst>
                            <p:childTnLst>
                              <p:par>
                                <p:cTn id="561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7" dur="500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1450"/>
                            </p:stCondLst>
                            <p:childTnLst>
                              <p:par>
                                <p:cTn id="569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5" dur="500"/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2250"/>
                            </p:stCondLst>
                            <p:childTnLst>
                              <p:par>
                                <p:cTn id="577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4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4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4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4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3" dur="500"/>
                                        <p:tgtEl>
                                          <p:spTgt spid="4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2800"/>
                            </p:stCondLst>
                            <p:childTnLst>
                              <p:par>
                                <p:cTn id="585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4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4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4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4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1" dur="500"/>
                                        <p:tgtEl>
                                          <p:spTgt spid="4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3300"/>
                            </p:stCondLst>
                            <p:childTnLst>
                              <p:par>
                                <p:cTn id="593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4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4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4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4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9" dur="500"/>
                                        <p:tgtEl>
                                          <p:spTgt spid="4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3850"/>
                            </p:stCondLst>
                            <p:childTnLst>
                              <p:par>
                                <p:cTn id="601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4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4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4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4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7" dur="500"/>
                                        <p:tgtEl>
                                          <p:spTgt spid="4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/>
          <p:nvPr/>
        </p:nvSpPr>
        <p:spPr>
          <a:xfrm>
            <a:off x="826920" y="5554800"/>
            <a:ext cx="4724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Liberalización comercial a través de reducciones arancelarias (solamente medidas en fronter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 txBox="1"/>
          <p:nvPr/>
        </p:nvSpPr>
        <p:spPr>
          <a:xfrm rot="2163000">
            <a:off x="3362040" y="4725720"/>
            <a:ext cx="30099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82424"/>
                  </a:solidFill>
                  <a:miter/>
                </a:ln>
                <a:solidFill>
                  <a:srgbClr val="ffffff"/>
                </a:solidFill>
                <a:latin typeface="Garamond"/>
              </a:rPr>
              <a:t>Comercio Mercaderías</a:t>
            </a:r>
            <a:endParaRPr b="1" lang="en-US" sz="4000" spc="1" strike="noStrike">
              <a:ln w="9360">
                <a:solidFill>
                  <a:srgbClr val="882424"/>
                </a:solidFill>
                <a:miter/>
              </a:ln>
              <a:solidFill>
                <a:srgbClr val="ffffff"/>
              </a:solidFill>
              <a:latin typeface="Garamond"/>
              <a:ea typeface="Garamond"/>
            </a:endParaRPr>
          </a:p>
        </p:txBody>
      </p:sp>
      <p:cxnSp>
        <p:nvCxnSpPr>
          <p:cNvPr id="456" name=""/>
          <p:cNvCxnSpPr/>
          <p:nvPr/>
        </p:nvCxnSpPr>
        <p:spPr>
          <a:xfrm rot="10800000">
            <a:off x="4500000" y="3067920"/>
            <a:ext cx="1800720" cy="1680120"/>
          </a:xfrm>
          <a:prstGeom prst="curvedConnector5">
            <a:avLst>
              <a:gd name="adj1" fmla="val 49990"/>
              <a:gd name="adj2" fmla="val 50000"/>
              <a:gd name="adj3" fmla="val 49990"/>
            </a:avLst>
          </a:prstGeom>
          <a:ln w="38160">
            <a:solidFill>
              <a:srgbClr val="ffffff"/>
            </a:solidFill>
            <a:prstDash val="dash"/>
            <a:miter/>
          </a:ln>
        </p:spPr>
      </p:cxn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TRATADO DE LIBRE COMERCIO TRADICION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682560" y="1700280"/>
            <a:ext cx="4176720" cy="2592360"/>
          </a:xfrm>
          <a:prstGeom prst="rect">
            <a:avLst/>
          </a:prstGeom>
          <a:ln w="0">
            <a:noFill/>
          </a:ln>
        </p:spPr>
      </p:pic>
      <p:pic>
        <p:nvPicPr>
          <p:cNvPr id="459" name="" descr=""/>
          <p:cNvPicPr/>
          <p:nvPr/>
        </p:nvPicPr>
        <p:blipFill>
          <a:blip r:embed="rId2"/>
          <a:stretch/>
        </p:blipFill>
        <p:spPr>
          <a:xfrm>
            <a:off x="682560" y="1700280"/>
            <a:ext cx="4176720" cy="2592360"/>
          </a:xfrm>
          <a:prstGeom prst="rect">
            <a:avLst/>
          </a:prstGeom>
          <a:ln w="0">
            <a:noFill/>
          </a:ln>
        </p:spPr>
      </p:pic>
      <p:pic>
        <p:nvPicPr>
          <p:cNvPr id="460" name="" descr=""/>
          <p:cNvPicPr/>
          <p:nvPr/>
        </p:nvPicPr>
        <p:blipFill>
          <a:blip r:embed="rId3"/>
          <a:stretch/>
        </p:blipFill>
        <p:spPr>
          <a:xfrm>
            <a:off x="6567480" y="2995560"/>
            <a:ext cx="2325600" cy="32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fill="hold">
                      <p:stCondLst>
                        <p:cond delay="0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14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500"/>
                            </p:stCondLst>
                            <p:childTnLst>
                              <p:par>
                                <p:cTn id="6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8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1000"/>
                            </p:stCondLst>
                            <p:childTnLst>
                              <p:par>
                                <p:cTn id="6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2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1500"/>
                            </p:stCondLst>
                            <p:childTnLst>
                              <p:par>
                                <p:cTn id="62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26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2000"/>
                            </p:stCondLst>
                            <p:childTnLst>
                              <p:par>
                                <p:cTn id="6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2500"/>
                            </p:stCondLst>
                            <p:childTnLst>
                              <p:par>
                                <p:cTn id="6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3000"/>
                            </p:stCondLst>
                            <p:childTnLst>
                              <p:par>
                                <p:cTn id="634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" descr=""/>
          <p:cNvPicPr/>
          <p:nvPr/>
        </p:nvPicPr>
        <p:blipFill>
          <a:blip r:embed="rId1"/>
          <a:stretch/>
        </p:blipFill>
        <p:spPr>
          <a:xfrm>
            <a:off x="6443640" y="2421000"/>
            <a:ext cx="2592360" cy="3673440"/>
          </a:xfrm>
          <a:prstGeom prst="rect">
            <a:avLst/>
          </a:prstGeom>
          <a:ln w="0">
            <a:noFill/>
          </a:ln>
        </p:spPr>
      </p:pic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TRATADOS DE LIBRE COMERCIO ULTIMA GENERACIÓN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2"/>
          <a:stretch/>
        </p:blipFill>
        <p:spPr>
          <a:xfrm>
            <a:off x="108000" y="1824120"/>
            <a:ext cx="4824360" cy="2973240"/>
          </a:xfrm>
          <a:prstGeom prst="rect">
            <a:avLst/>
          </a:prstGeom>
          <a:ln w="0">
            <a:noFill/>
          </a:ln>
        </p:spPr>
      </p:pic>
      <p:sp>
        <p:nvSpPr>
          <p:cNvPr id="464" name=""/>
          <p:cNvSpPr/>
          <p:nvPr/>
        </p:nvSpPr>
        <p:spPr>
          <a:xfrm>
            <a:off x="1835280" y="1714680"/>
            <a:ext cx="1163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ervic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1258920" y="4761000"/>
            <a:ext cx="259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ropiedad Intelectu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4851360" y="1916280"/>
            <a:ext cx="152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Invers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4920" y="1628640"/>
            <a:ext cx="1800360" cy="30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Tahoma"/>
              </a:rPr>
              <a:t>Otros temas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Competenc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Trabajo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Medio ambien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Compras Gubernamental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E Commer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Facilitación de Comerc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Et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893880" y="5589720"/>
            <a:ext cx="533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Integración más profunda incluye temas de regulación interna de los propios Est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"/>
          <p:cNvSpPr txBox="1"/>
          <p:nvPr/>
        </p:nvSpPr>
        <p:spPr>
          <a:xfrm rot="2081400">
            <a:off x="4211280" y="4437000"/>
            <a:ext cx="30970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82424"/>
                  </a:solidFill>
                  <a:miter/>
                </a:ln>
                <a:solidFill>
                  <a:srgbClr val="ffffff"/>
                </a:solidFill>
                <a:latin typeface="Garamond"/>
              </a:rPr>
              <a:t>Comercio Mercaderías</a:t>
            </a:r>
            <a:endParaRPr b="1" lang="en-US" sz="4000" spc="1" strike="noStrike">
              <a:ln w="9360">
                <a:solidFill>
                  <a:srgbClr val="882424"/>
                </a:solidFill>
                <a:miter/>
              </a:ln>
              <a:solidFill>
                <a:srgbClr val="ffffff"/>
              </a:solidFill>
              <a:latin typeface="Garamond"/>
              <a:ea typeface="Garamond"/>
            </a:endParaRPr>
          </a:p>
        </p:txBody>
      </p:sp>
      <p:sp>
        <p:nvSpPr>
          <p:cNvPr id="470" name=""/>
          <p:cNvSpPr/>
          <p:nvPr/>
        </p:nvSpPr>
        <p:spPr>
          <a:xfrm flipH="1" flipV="1">
            <a:off x="1080720" y="2396880"/>
            <a:ext cx="971640" cy="8175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2052720" y="2206440"/>
            <a:ext cx="0" cy="10062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V="1">
            <a:off x="2052720" y="2493720"/>
            <a:ext cx="1079280" cy="718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052720" y="3213000"/>
            <a:ext cx="0" cy="9367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 flipH="1">
            <a:off x="1116000" y="3214800"/>
            <a:ext cx="936720" cy="5778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2052720" y="3213000"/>
            <a:ext cx="936720" cy="7207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76" name=""/>
          <p:cNvCxnSpPr/>
          <p:nvPr/>
        </p:nvCxnSpPr>
        <p:spPr>
          <a:xfrm rot="10800000">
            <a:off x="5060160" y="3185280"/>
            <a:ext cx="1527840" cy="1467720"/>
          </a:xfrm>
          <a:prstGeom prst="curvedConnector5">
            <a:avLst>
              <a:gd name="adj1" fmla="val 49988"/>
              <a:gd name="adj2" fmla="val 50000"/>
              <a:gd name="adj3" fmla="val 49988"/>
            </a:avLst>
          </a:prstGeom>
          <a:ln cap="sq" w="38160">
            <a:solidFill>
              <a:srgbClr val="ffffff"/>
            </a:solidFill>
            <a:miter/>
          </a:ln>
        </p:spPr>
      </p:cxnSp>
      <p:sp>
        <p:nvSpPr>
          <p:cNvPr id="477" name=""/>
          <p:cNvSpPr/>
          <p:nvPr/>
        </p:nvSpPr>
        <p:spPr>
          <a:xfrm flipH="1" flipV="1">
            <a:off x="6982920" y="3357720"/>
            <a:ext cx="613080" cy="863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 flipV="1">
            <a:off x="7596360" y="3213000"/>
            <a:ext cx="0" cy="10065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 flipV="1">
            <a:off x="7596360" y="3357720"/>
            <a:ext cx="504720" cy="863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596360" y="4221000"/>
            <a:ext cx="0" cy="9367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 flipH="1">
            <a:off x="7308360" y="4221000"/>
            <a:ext cx="289080" cy="503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7596360" y="4221000"/>
            <a:ext cx="576000" cy="7923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6" dur="indefinite" restart="never" nodeType="tmRoot">
          <p:childTnLst>
            <p:seq>
              <p:cTn id="637" dur="indefinite" nodeType="mainSeq">
                <p:childTnLst>
                  <p:par>
                    <p:cTn id="638" fill="hold">
                      <p:stCondLst>
                        <p:cond delay="0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42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500"/>
                            </p:stCondLst>
                            <p:childTnLst>
                              <p:par>
                                <p:cTn id="644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1000"/>
                            </p:stCondLst>
                            <p:childTnLst>
                              <p:par>
                                <p:cTn id="65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1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2000"/>
                            </p:stCondLst>
                            <p:childTnLst>
                              <p:par>
                                <p:cTn id="65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61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4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7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0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3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6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9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2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5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8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1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4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7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2500"/>
                            </p:stCondLst>
                            <p:childTnLst>
                              <p:par>
                                <p:cTn id="69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1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3400"/>
                            </p:stCondLst>
                            <p:childTnLst>
                              <p:par>
                                <p:cTn id="70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1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fill="hold">
                            <p:stCondLst>
                              <p:cond delay="3900"/>
                            </p:stCondLst>
                            <p:childTnLst>
                              <p:par>
                                <p:cTn id="71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4900"/>
                            </p:stCondLst>
                            <p:childTnLst>
                              <p:par>
                                <p:cTn id="72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23" dur="2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6900"/>
                            </p:stCondLst>
                            <p:childTnLst>
                              <p:par>
                                <p:cTn id="7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7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/>
          <p:nvPr/>
        </p:nvSpPr>
        <p:spPr>
          <a:xfrm>
            <a:off x="324000" y="3645000"/>
            <a:ext cx="31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COMERCIO BIE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4974120" y="2222640"/>
            <a:ext cx="218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Reglas de orig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5757840" y="2960640"/>
            <a:ext cx="3206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Administración Aduane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5757840" y="4292640"/>
            <a:ext cx="26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Medidas sanitarias y fitosanitari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3348000" y="1699920"/>
            <a:ext cx="936720" cy="187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4317840" y="1522440"/>
            <a:ext cx="234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Acceso al merca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5038560" y="5121360"/>
            <a:ext cx="3494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Obstáculos técnicos al comerc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 flipV="1">
            <a:off x="3564000" y="2418840"/>
            <a:ext cx="1439640" cy="1219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 flipV="1">
            <a:off x="3745080" y="3139560"/>
            <a:ext cx="1979280" cy="600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3745080" y="3943440"/>
            <a:ext cx="1979280" cy="601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3565440" y="4124160"/>
            <a:ext cx="1438200" cy="1221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3348000" y="4232160"/>
            <a:ext cx="934920" cy="187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317840" y="5840280"/>
            <a:ext cx="2028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efensa comerci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TLC con EEUU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8" dur="indefinite" restart="never" nodeType="tmRoot">
          <p:childTnLst>
            <p:seq>
              <p:cTn id="729" dur="indefinite" nodeType="mainSeq">
                <p:childTnLst>
                  <p:par>
                    <p:cTn id="730" fill="hold">
                      <p:stCondLst>
                        <p:cond delay="0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34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fill="hold">
                            <p:stCondLst>
                              <p:cond delay="500"/>
                            </p:stCondLst>
                            <p:childTnLst>
                              <p:par>
                                <p:cTn id="73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2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fill="hold">
                            <p:stCondLst>
                              <p:cond delay="1650"/>
                            </p:stCondLst>
                            <p:childTnLst>
                              <p:par>
                                <p:cTn id="74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48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5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fill="hold">
                            <p:stCondLst>
                              <p:cond delay="2850"/>
                            </p:stCondLst>
                            <p:childTnLst>
                              <p:par>
                                <p:cTn id="75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61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8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4000"/>
                            </p:stCondLst>
                            <p:childTnLst>
                              <p:par>
                                <p:cTn id="77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74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1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fill="hold">
                            <p:stCondLst>
                              <p:cond delay="5550"/>
                            </p:stCondLst>
                            <p:childTnLst>
                              <p:par>
                                <p:cTn id="78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85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90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fill="hold">
                            <p:stCondLst>
                              <p:cond delay="6050"/>
                            </p:stCondLst>
                            <p:childTnLst>
                              <p:par>
                                <p:cTn id="79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94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99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0" fill="hold">
                            <p:stCondLst>
                              <p:cond delay="6550"/>
                            </p:stCondLst>
                            <p:childTnLst>
                              <p:par>
                                <p:cTn id="80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03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08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/>
          <p:nvPr/>
        </p:nvSpPr>
        <p:spPr>
          <a:xfrm>
            <a:off x="395280" y="3608280"/>
            <a:ext cx="165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NUEVOS TEM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 flipV="1">
            <a:off x="2158920" y="2251080"/>
            <a:ext cx="1440000" cy="1440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3778200" y="1989000"/>
            <a:ext cx="453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omercio transfronterizo de servic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4498920" y="288936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Telecomunicac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5218200" y="3789360"/>
            <a:ext cx="273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omercio electróni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4857840" y="4238640"/>
            <a:ext cx="297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olítica de Competenc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 flipV="1">
            <a:off x="2158920" y="1377720"/>
            <a:ext cx="719280" cy="215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3059280" y="1089000"/>
            <a:ext cx="338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ompras gubernament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3419640" y="153972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Invers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138560" y="243828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ervicios financier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857840" y="3338640"/>
            <a:ext cx="428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Entrada temporal personas negoc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4497480" y="4687920"/>
            <a:ext cx="4178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erechos de propiedad intelectu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4138560" y="5138640"/>
            <a:ext cx="115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Labor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3778200" y="5587920"/>
            <a:ext cx="21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Medio ambien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>
            <a:off x="2158920" y="2673000"/>
            <a:ext cx="180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 flipV="1">
            <a:off x="2158920" y="3105000"/>
            <a:ext cx="2158920" cy="71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417840" y="6037200"/>
            <a:ext cx="201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Transparenc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3057480" y="6488280"/>
            <a:ext cx="324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olución de controversi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2158920" y="396864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2158920" y="4040280"/>
            <a:ext cx="252108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2158920" y="4113360"/>
            <a:ext cx="2158920" cy="71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2158920" y="4184640"/>
            <a:ext cx="180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2158920" y="4255920"/>
            <a:ext cx="1440000" cy="1440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4329000"/>
            <a:ext cx="1079640" cy="180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2158920" y="4471920"/>
            <a:ext cx="719280" cy="215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 flipV="1">
            <a:off x="2158920" y="3536640"/>
            <a:ext cx="251928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 flipV="1">
            <a:off x="2158920" y="1809360"/>
            <a:ext cx="1079640" cy="180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TLC con EEUU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9" dur="indefinite" restart="never" nodeType="tmRoot">
          <p:childTnLst>
            <p:seq>
              <p:cTn id="810" dur="indefinite" nodeType="mainSeq">
                <p:childTnLst>
                  <p:par>
                    <p:cTn id="811" fill="hold">
                      <p:stCondLst>
                        <p:cond delay="0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15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500"/>
                            </p:stCondLst>
                            <p:childTnLst>
                              <p:par>
                                <p:cTn id="81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3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1500"/>
                            </p:stCondLst>
                            <p:childTnLst>
                              <p:par>
                                <p:cTn id="825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3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2050"/>
                            </p:stCondLst>
                            <p:childTnLst>
                              <p:par>
                                <p:cTn id="837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3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5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2550"/>
                            </p:stCondLst>
                            <p:childTnLst>
                              <p:par>
                                <p:cTn id="849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5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7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fill="hold">
                            <p:stCondLst>
                              <p:cond delay="3200"/>
                            </p:stCondLst>
                            <p:childTnLst>
                              <p:par>
                                <p:cTn id="861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fill="hold">
                            <p:stCondLst>
                              <p:cond delay="3750"/>
                            </p:stCondLst>
                            <p:childTnLst>
                              <p:par>
                                <p:cTn id="873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9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1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4" fill="hold">
                            <p:stCondLst>
                              <p:cond delay="4250"/>
                            </p:stCondLst>
                            <p:childTnLst>
                              <p:par>
                                <p:cTn id="885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1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3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6" fill="hold">
                            <p:stCondLst>
                              <p:cond delay="4900"/>
                            </p:stCondLst>
                            <p:childTnLst>
                              <p:par>
                                <p:cTn id="897" nodeType="afterEffect" fill="hold" presetClass="entr" presetID="2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99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0" nodeType="with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6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7" fill="hold">
                            <p:stCondLst>
                              <p:cond delay="5450"/>
                            </p:stCondLst>
                            <p:childTnLst>
                              <p:par>
                                <p:cTn id="908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12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5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fill="hold">
                            <p:stCondLst>
                              <p:cond delay="6050"/>
                            </p:stCondLst>
                            <p:childTnLst>
                              <p:par>
                                <p:cTn id="918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22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7" fill="hold">
                            <p:stCondLst>
                              <p:cond delay="6700"/>
                            </p:stCondLst>
                            <p:childTnLst>
                              <p:par>
                                <p:cTn id="928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32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5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7" fill="hold">
                            <p:stCondLst>
                              <p:cond delay="7200"/>
                            </p:stCondLst>
                            <p:childTnLst>
                              <p:par>
                                <p:cTn id="938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42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7" fill="hold">
                            <p:stCondLst>
                              <p:cond delay="7750"/>
                            </p:stCondLst>
                            <p:childTnLst>
                              <p:par>
                                <p:cTn id="948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52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fill="hold">
                            <p:stCondLst>
                              <p:cond delay="8250"/>
                            </p:stCondLst>
                            <p:childTnLst>
                              <p:par>
                                <p:cTn id="958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412920" y="2421000"/>
            <a:ext cx="831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TALLER DE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INTEGRACIÓN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COMERCIA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" descr=""/>
          <p:cNvPicPr/>
          <p:nvPr/>
        </p:nvPicPr>
        <p:blipFill>
          <a:blip r:embed="rId1"/>
          <a:stretch/>
        </p:blipFill>
        <p:spPr>
          <a:xfrm>
            <a:off x="1042920" y="2205000"/>
            <a:ext cx="7705800" cy="20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7" dur="indefinite" restart="never" nodeType="tmRoot">
          <p:childTnLst>
            <p:seq>
              <p:cTn id="968" dur="indefinite" nodeType="mainSeq">
                <p:childTnLst>
                  <p:par>
                    <p:cTn id="969" fill="hold">
                      <p:stCondLst>
                        <p:cond delay="0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75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xportaciones a EE.UU.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27" name=""/>
          <p:cNvSpPr/>
          <p:nvPr/>
        </p:nvSpPr>
        <p:spPr>
          <a:xfrm>
            <a:off x="7024320" y="2690640"/>
            <a:ext cx="35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EE.UU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7682400" y="2690640"/>
            <a:ext cx="26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Total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8295480" y="2690640"/>
            <a:ext cx="639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Part. EE.UU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8516160" y="2870280"/>
            <a:ext cx="165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%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5805000" y="3036960"/>
            <a:ext cx="290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ffffff"/>
                </a:solidFill>
                <a:latin typeface="Verdana"/>
              </a:rPr>
              <a:t>Total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6996240" y="3036960"/>
            <a:ext cx="45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,348.0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7633080" y="3036960"/>
            <a:ext cx="45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8,806.29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8454240" y="30369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6.66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5804640" y="3203640"/>
            <a:ext cx="709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Tradicionale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6996240" y="3203640"/>
            <a:ext cx="45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,321.69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7633080" y="3203640"/>
            <a:ext cx="45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,199.9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8454240" y="320364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1.3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5788080" y="3370320"/>
            <a:ext cx="438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Minero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7094520" y="337032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993.3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7633080" y="3370320"/>
            <a:ext cx="45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4,512.66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8454240" y="337032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2.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5795280" y="3537000"/>
            <a:ext cx="563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Pesquero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7227360" y="3537000"/>
            <a:ext cx="227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3.4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7731000" y="353700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818.74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8484480" y="3537000"/>
            <a:ext cx="227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0.4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5822280" y="3703680"/>
            <a:ext cx="1096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Petróleo y derivado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7094520" y="370368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54.29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7731000" y="370368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55.1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8454240" y="370368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38.8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5797800" y="3870360"/>
            <a:ext cx="491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Agrícola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7160400" y="38703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70.67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7731000" y="387036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13.39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8454240" y="38703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33.1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5800680" y="4037040"/>
            <a:ext cx="744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Manufactura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6996240" y="4037040"/>
            <a:ext cx="45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,026.3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7633080" y="4037040"/>
            <a:ext cx="45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,606.36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8454240" y="403704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39.38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5798880" y="4203720"/>
            <a:ext cx="727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Agropecuari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7094520" y="420372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98.2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7731000" y="420372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16.19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8454240" y="420372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32.17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5796000" y="4370400"/>
            <a:ext cx="288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Textil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7094520" y="437040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515.98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7731000" y="437040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817.26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8454240" y="437040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3.14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5793120" y="4537080"/>
            <a:ext cx="508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Pesquer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7160400" y="453708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43.6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7731000" y="453708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08.1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8454240" y="453708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0.96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5792040" y="4703760"/>
            <a:ext cx="44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Químic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7160400" y="47037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42.37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7731000" y="470376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312.56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8454240" y="47037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3.56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5810040" y="4870440"/>
            <a:ext cx="851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Metal-mecánic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7160400" y="487044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4.74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7797240" y="487044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96.2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8454240" y="487044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5.7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5792760" y="5035680"/>
            <a:ext cx="1023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Sidero-metalúrgic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7160400" y="503568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8.89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7731000" y="503568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90.94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8454240" y="503568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5.1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5816880" y="5202360"/>
            <a:ext cx="1059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Minería no metálica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7160400" y="52023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40.2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7797240" y="52023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72.24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8454240" y="52023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55.68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5803920" y="5369040"/>
            <a:ext cx="563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Artesanía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227360" y="5369040"/>
            <a:ext cx="227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0.75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863840" y="5369040"/>
            <a:ext cx="227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.2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8454240" y="536904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2.1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5817240" y="5535720"/>
            <a:ext cx="1003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Maderas y papele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7160400" y="553572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2.69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7731000" y="553572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71.09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8454240" y="553572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36.64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5815800" y="5702400"/>
            <a:ext cx="788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Pieles y cuero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7227360" y="5702400"/>
            <a:ext cx="227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4.1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7797240" y="570240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5.20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8454240" y="570240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6.40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5827680" y="5865840"/>
            <a:ext cx="1009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Varios (inc. Joyería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7160400" y="586584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4.70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7797240" y="586584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95.3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8454240" y="586584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7.88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841000" y="6111720"/>
            <a:ext cx="1996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Verdana"/>
              </a:rPr>
              <a:t>Fuente: SUNAT</a:t>
            </a:r>
            <a:r>
              <a:rPr b="0" lang="es-MX" sz="800" spc="-1" strike="noStrike">
                <a:solidFill>
                  <a:srgbClr val="ffffff"/>
                </a:solidFill>
                <a:latin typeface="Verdana"/>
              </a:rPr>
              <a:t>. </a:t>
            </a:r>
            <a:r>
              <a:rPr b="0" lang="es-ES" sz="8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27200" y="2514600"/>
            <a:ext cx="2736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Participación de EE.UU. en las Exportaciones (2003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7072920" y="2870280"/>
            <a:ext cx="928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millones de US$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5730840" y="2662200"/>
            <a:ext cx="3295800" cy="2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6858000" y="2838600"/>
            <a:ext cx="2168640" cy="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5730840" y="3178080"/>
            <a:ext cx="32958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5730840" y="3178080"/>
            <a:ext cx="3295800" cy="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5730840" y="3344760"/>
            <a:ext cx="32958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5730840" y="3344760"/>
            <a:ext cx="3295800" cy="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5730840" y="4011480"/>
            <a:ext cx="32958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5730840" y="4011480"/>
            <a:ext cx="3295800" cy="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5730840" y="4178160"/>
            <a:ext cx="32958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5730840" y="4178160"/>
            <a:ext cx="3295800" cy="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5730840" y="6013440"/>
            <a:ext cx="3295800" cy="2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3924360" y="2421000"/>
            <a:ext cx="1600200" cy="550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ffffff"/>
                </a:solidFill>
                <a:latin typeface="Verdana"/>
              </a:rPr>
              <a:t>El 40% del total de nuestras manufacturas van a EE.UU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8" name="" descr=""/>
          <p:cNvPicPr/>
          <p:nvPr/>
        </p:nvPicPr>
        <p:blipFill>
          <a:blip r:embed="rId1"/>
          <a:stretch/>
        </p:blipFill>
        <p:spPr>
          <a:xfrm>
            <a:off x="755640" y="3191040"/>
            <a:ext cx="4775040" cy="254304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900000" y="5661000"/>
            <a:ext cx="403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ffffff"/>
                </a:solidFill>
                <a:latin typeface="Verdana"/>
              </a:rPr>
              <a:t>Fuente: SUNAT. </a:t>
            </a:r>
            <a:r>
              <a:rPr b="1" lang="es-ES" sz="10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"/>
          <p:cNvGrpSpPr/>
          <p:nvPr/>
        </p:nvGrpSpPr>
        <p:grpSpPr>
          <a:xfrm>
            <a:off x="1141920" y="1752480"/>
            <a:ext cx="7323840" cy="4809240"/>
            <a:chOff x="1141920" y="1752480"/>
            <a:chExt cx="7323840" cy="4809240"/>
          </a:xfrm>
        </p:grpSpPr>
        <p:sp>
          <p:nvSpPr>
            <p:cNvPr id="621" name=""/>
            <p:cNvSpPr/>
            <p:nvPr/>
          </p:nvSpPr>
          <p:spPr>
            <a:xfrm>
              <a:off x="1509840" y="4028040"/>
              <a:ext cx="365760" cy="111708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3180240" y="3158640"/>
              <a:ext cx="366840" cy="198648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4849920" y="3308400"/>
              <a:ext cx="366840" cy="183672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6522840" y="3824640"/>
              <a:ext cx="376560" cy="132048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875960" y="2728800"/>
              <a:ext cx="366840" cy="24163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3547440" y="2342160"/>
              <a:ext cx="365400" cy="28029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217120" y="2653920"/>
              <a:ext cx="376200" cy="24912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899400" y="2954880"/>
              <a:ext cx="366480" cy="21898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485720" y="1846800"/>
              <a:ext cx="1080" cy="3298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401120" y="5145120"/>
              <a:ext cx="53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401120" y="4596480"/>
              <a:ext cx="53640" cy="2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401120" y="4049280"/>
              <a:ext cx="53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401120" y="3502440"/>
              <a:ext cx="536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401120" y="2944440"/>
              <a:ext cx="53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401120" y="2395440"/>
              <a:ext cx="53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401120" y="1846800"/>
              <a:ext cx="53640" cy="2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455120" y="5145120"/>
              <a:ext cx="669456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V="1">
              <a:off x="1455120" y="5144760"/>
              <a:ext cx="10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V="1">
              <a:off x="2296800" y="5144760"/>
              <a:ext cx="10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V="1">
              <a:off x="3126240" y="5144760"/>
              <a:ext cx="28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V="1">
              <a:off x="3966480" y="5144760"/>
              <a:ext cx="144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 flipV="1">
              <a:off x="4797720" y="5144760"/>
              <a:ext cx="10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 flipV="1">
              <a:off x="5637960" y="5144760"/>
              <a:ext cx="144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V="1">
              <a:off x="6467400" y="5144760"/>
              <a:ext cx="144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V="1">
              <a:off x="7318440" y="5144760"/>
              <a:ext cx="28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V="1">
              <a:off x="8149680" y="5144760"/>
              <a:ext cx="10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8149680" y="1846800"/>
              <a:ext cx="1080" cy="3298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8094240" y="514512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8094240" y="478008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8094240" y="441468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8094240" y="404928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8094240" y="3684240"/>
              <a:ext cx="98280" cy="25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8094240" y="3308400"/>
              <a:ext cx="9828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8094240" y="294444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8094240" y="2588400"/>
              <a:ext cx="9828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8094240" y="221364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8094240" y="1846800"/>
              <a:ext cx="98280" cy="2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75960" y="2031840"/>
              <a:ext cx="5854320" cy="2705040"/>
            </a:xfrm>
            <a:custGeom>
              <a:avLst/>
              <a:gdLst/>
              <a:ahLst/>
              <a:rect l="l" t="t" r="r" b="b"/>
              <a:pathLst>
                <a:path w="543" h="252">
                  <a:moveTo>
                    <a:pt x="0" y="0"/>
                  </a:moveTo>
                  <a:lnTo>
                    <a:pt x="77" y="237"/>
                  </a:lnTo>
                  <a:lnTo>
                    <a:pt x="155" y="252"/>
                  </a:lnTo>
                  <a:lnTo>
                    <a:pt x="232" y="205"/>
                  </a:lnTo>
                  <a:lnTo>
                    <a:pt x="310" y="197"/>
                  </a:lnTo>
                  <a:lnTo>
                    <a:pt x="387" y="149"/>
                  </a:lnTo>
                  <a:lnTo>
                    <a:pt x="466" y="86"/>
                  </a:lnTo>
                  <a:lnTo>
                    <a:pt x="543" y="32"/>
                  </a:lnTo>
                </a:path>
              </a:pathLst>
            </a:custGeom>
            <a:noFill/>
            <a:ln w="381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811520" y="1966320"/>
              <a:ext cx="128880" cy="12816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7" y="0"/>
                  </a:moveTo>
                  <a:lnTo>
                    <a:pt x="73" y="37"/>
                  </a:lnTo>
                  <a:lnTo>
                    <a:pt x="37" y="73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640960" y="4512600"/>
              <a:ext cx="130320" cy="126720"/>
            </a:xfrm>
            <a:custGeom>
              <a:avLst/>
              <a:gdLst/>
              <a:ahLst/>
              <a:rect l="l" t="t" r="r" b="b"/>
              <a:pathLst>
                <a:path w="73" h="72">
                  <a:moveTo>
                    <a:pt x="36" y="0"/>
                  </a:moveTo>
                  <a:lnTo>
                    <a:pt x="73" y="36"/>
                  </a:lnTo>
                  <a:lnTo>
                    <a:pt x="36" y="72"/>
                  </a:lnTo>
                  <a:lnTo>
                    <a:pt x="0" y="36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3481200" y="4673160"/>
              <a:ext cx="128880" cy="12960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7" y="0"/>
                  </a:moveTo>
                  <a:lnTo>
                    <a:pt x="73" y="36"/>
                  </a:lnTo>
                  <a:lnTo>
                    <a:pt x="37" y="73"/>
                  </a:lnTo>
                  <a:lnTo>
                    <a:pt x="0" y="36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312440" y="4167000"/>
              <a:ext cx="128880" cy="12996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7" y="0"/>
                  </a:moveTo>
                  <a:lnTo>
                    <a:pt x="73" y="37"/>
                  </a:lnTo>
                  <a:lnTo>
                    <a:pt x="37" y="73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152680" y="4082760"/>
              <a:ext cx="130320" cy="12852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6" y="0"/>
                  </a:moveTo>
                  <a:lnTo>
                    <a:pt x="73" y="36"/>
                  </a:lnTo>
                  <a:lnTo>
                    <a:pt x="36" y="73"/>
                  </a:lnTo>
                  <a:lnTo>
                    <a:pt x="0" y="36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983560" y="3566520"/>
              <a:ext cx="129240" cy="12816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6" y="0"/>
                  </a:moveTo>
                  <a:lnTo>
                    <a:pt x="73" y="37"/>
                  </a:lnTo>
                  <a:lnTo>
                    <a:pt x="36" y="73"/>
                  </a:lnTo>
                  <a:lnTo>
                    <a:pt x="0" y="37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834600" y="2890800"/>
              <a:ext cx="118440" cy="126720"/>
            </a:xfrm>
            <a:custGeom>
              <a:avLst/>
              <a:gdLst/>
              <a:ahLst/>
              <a:rect l="l" t="t" r="r" b="b"/>
              <a:pathLst>
                <a:path w="67" h="72">
                  <a:moveTo>
                    <a:pt x="37" y="0"/>
                  </a:moveTo>
                  <a:lnTo>
                    <a:pt x="67" y="36"/>
                  </a:lnTo>
                  <a:lnTo>
                    <a:pt x="37" y="72"/>
                  </a:lnTo>
                  <a:lnTo>
                    <a:pt x="0" y="36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664400" y="2311560"/>
              <a:ext cx="119520" cy="126720"/>
            </a:xfrm>
            <a:custGeom>
              <a:avLst/>
              <a:gdLst/>
              <a:ahLst/>
              <a:rect l="l" t="t" r="r" b="b"/>
              <a:pathLst>
                <a:path w="67" h="72">
                  <a:moveTo>
                    <a:pt x="37" y="0"/>
                  </a:moveTo>
                  <a:lnTo>
                    <a:pt x="67" y="36"/>
                  </a:lnTo>
                  <a:lnTo>
                    <a:pt x="37" y="72"/>
                  </a:lnTo>
                  <a:lnTo>
                    <a:pt x="0" y="36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1237680" y="50475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1141920" y="45003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1141920" y="39531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1141920" y="34059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1141920" y="28465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1141920" y="22978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1141920" y="17524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6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 rot="16200000">
              <a:off x="166860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 rot="16200000">
              <a:off x="249804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rot="16200000">
              <a:off x="335232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6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rot="16200000">
              <a:off x="4183560" y="53100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7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rot="16200000">
              <a:off x="502200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8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rot="16200000">
              <a:off x="585000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9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rot="16200000">
              <a:off x="669060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0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rot="16200000">
              <a:off x="752472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00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8267040" y="50475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8267040" y="46731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8267040" y="43077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8267040" y="39531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6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8267040" y="35773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8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8267040" y="32133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8267040" y="28465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8267040" y="24829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8267040" y="21157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6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8267040" y="17524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2997360" y="5929200"/>
              <a:ext cx="366840" cy="10692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387600" y="5865120"/>
              <a:ext cx="3181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Tasa de pobreza - Línea 1 - SEDESO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997360" y="6166440"/>
              <a:ext cx="366840" cy="1173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391920" y="6102360"/>
              <a:ext cx="2158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Tasa de pobreza - CEP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2997360" y="6444720"/>
              <a:ext cx="354960" cy="252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126240" y="6401880"/>
              <a:ext cx="96840" cy="9612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30" y="0"/>
                  </a:moveTo>
                  <a:lnTo>
                    <a:pt x="54" y="25"/>
                  </a:lnTo>
                  <a:lnTo>
                    <a:pt x="30" y="55"/>
                  </a:lnTo>
                  <a:lnTo>
                    <a:pt x="0" y="25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3384360" y="6348240"/>
              <a:ext cx="3364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alarios reales en dólares (eje derecho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99" name=""/>
          <p:cNvSpPr/>
          <p:nvPr/>
        </p:nvSpPr>
        <p:spPr>
          <a:xfrm>
            <a:off x="2133720" y="1460520"/>
            <a:ext cx="5181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Tasa de pobreza y salarios reales en México 1994 - 2001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en porcentajes y dólare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1327320" y="623880"/>
            <a:ext cx="69703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xperiencia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02" name=""/>
          <p:cNvSpPr/>
          <p:nvPr/>
        </p:nvSpPr>
        <p:spPr>
          <a:xfrm>
            <a:off x="2220840" y="3103560"/>
            <a:ext cx="1800" cy="1736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2163600" y="4840200"/>
            <a:ext cx="1130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2163600" y="4597560"/>
            <a:ext cx="1130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2163600" y="4336920"/>
            <a:ext cx="1130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2163600" y="4094280"/>
            <a:ext cx="1130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2163600" y="3851280"/>
            <a:ext cx="1130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2163600" y="3608280"/>
            <a:ext cx="1130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2163600" y="3346560"/>
            <a:ext cx="1130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2163600" y="3103560"/>
            <a:ext cx="1130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2220840" y="4840200"/>
            <a:ext cx="599292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 flipV="1">
            <a:off x="2220840" y="4784400"/>
            <a:ext cx="1800" cy="111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 flipV="1">
            <a:off x="2970360" y="4784400"/>
            <a:ext cx="1440" cy="111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 flipV="1">
            <a:off x="3719520" y="4784400"/>
            <a:ext cx="1440" cy="111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 flipV="1">
            <a:off x="4467240" y="4784400"/>
            <a:ext cx="1440" cy="111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 flipV="1">
            <a:off x="5216400" y="4784400"/>
            <a:ext cx="1800" cy="111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 flipV="1">
            <a:off x="5965920" y="4784400"/>
            <a:ext cx="1440" cy="111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 flipV="1">
            <a:off x="6715080" y="4784400"/>
            <a:ext cx="1800" cy="111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7464600" y="4784400"/>
            <a:ext cx="1440" cy="111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 flipV="1">
            <a:off x="8213760" y="4784400"/>
            <a:ext cx="1440" cy="111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2595600" y="3309840"/>
            <a:ext cx="5243400" cy="989280"/>
          </a:xfrm>
          <a:custGeom>
            <a:avLst/>
            <a:gdLst/>
            <a:ahLst/>
            <a:rect l="l" t="t" r="r" b="b"/>
            <a:pathLst>
              <a:path w="280" h="53">
                <a:moveTo>
                  <a:pt x="0" y="0"/>
                </a:moveTo>
                <a:lnTo>
                  <a:pt x="40" y="9"/>
                </a:lnTo>
                <a:lnTo>
                  <a:pt x="80" y="33"/>
                </a:lnTo>
                <a:lnTo>
                  <a:pt x="120" y="39"/>
                </a:lnTo>
                <a:lnTo>
                  <a:pt x="160" y="49"/>
                </a:lnTo>
                <a:lnTo>
                  <a:pt x="200" y="53"/>
                </a:lnTo>
                <a:lnTo>
                  <a:pt x="240" y="50"/>
                </a:lnTo>
                <a:lnTo>
                  <a:pt x="280" y="46"/>
                </a:lnTo>
              </a:path>
            </a:pathLst>
          </a:custGeom>
          <a:noFill/>
          <a:ln w="381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2538360" y="3252960"/>
            <a:ext cx="112680" cy="112680"/>
          </a:xfrm>
          <a:prstGeom prst="ellipse">
            <a:avLst/>
          </a:prstGeom>
          <a:solidFill>
            <a:srgbClr val="ffcc00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3287880" y="3421080"/>
            <a:ext cx="112680" cy="112680"/>
          </a:xfrm>
          <a:prstGeom prst="ellipse">
            <a:avLst/>
          </a:prstGeom>
          <a:solidFill>
            <a:srgbClr val="ffcc00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4037040" y="3868560"/>
            <a:ext cx="112680" cy="113040"/>
          </a:xfrm>
          <a:prstGeom prst="ellipse">
            <a:avLst/>
          </a:prstGeom>
          <a:solidFill>
            <a:srgbClr val="ffcc00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4786200" y="3981600"/>
            <a:ext cx="112680" cy="112680"/>
          </a:xfrm>
          <a:prstGeom prst="ellipse">
            <a:avLst/>
          </a:prstGeom>
          <a:solidFill>
            <a:srgbClr val="ffcc00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5535720" y="4168800"/>
            <a:ext cx="112680" cy="111240"/>
          </a:xfrm>
          <a:prstGeom prst="ellipse">
            <a:avLst/>
          </a:prstGeom>
          <a:solidFill>
            <a:srgbClr val="ffcc00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040" bIns="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6284880" y="4243320"/>
            <a:ext cx="111240" cy="111240"/>
          </a:xfrm>
          <a:prstGeom prst="ellipse">
            <a:avLst/>
          </a:prstGeom>
          <a:solidFill>
            <a:srgbClr val="ffcc00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040" bIns="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7032600" y="4186080"/>
            <a:ext cx="112680" cy="113040"/>
          </a:xfrm>
          <a:prstGeom prst="ellipse">
            <a:avLst/>
          </a:prstGeom>
          <a:solidFill>
            <a:srgbClr val="ffcc00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7781760" y="4111560"/>
            <a:ext cx="113040" cy="112680"/>
          </a:xfrm>
          <a:prstGeom prst="ellipse">
            <a:avLst/>
          </a:prstGeom>
          <a:solidFill>
            <a:srgbClr val="ffcc00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4147560" y="2617920"/>
            <a:ext cx="2195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Verdana"/>
              </a:rPr>
              <a:t>Tasa de Desemple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7808040" y="366408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2.7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7152480" y="373860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2.4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6515640" y="381312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2.2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5766480" y="379404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2.5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5110920" y="360828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3.2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4361400" y="353376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3.7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2713680" y="289872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6.2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688560" y="319716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5.5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1824120" y="4710240"/>
            <a:ext cx="28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1824120" y="4467240"/>
            <a:ext cx="28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1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1824120" y="4205160"/>
            <a:ext cx="28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2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1824120" y="3962520"/>
            <a:ext cx="28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3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1824120" y="3719520"/>
            <a:ext cx="28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4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1824120" y="3476520"/>
            <a:ext cx="28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5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1824120" y="3216240"/>
            <a:ext cx="28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6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1824120" y="2973240"/>
            <a:ext cx="28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7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2457000" y="498960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199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3206520" y="498960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199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3954240" y="498960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199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4703400" y="498960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199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5452560" y="498960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199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6202080" y="498960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2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6951240" y="498960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200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7700760" y="498960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200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1631880" y="5470560"/>
            <a:ext cx="66740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Verdana"/>
              </a:rPr>
              <a:t>Fuente: Instituto Nacional de Estadística, Geografía e Informática de Méxic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757" name="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7391520" cy="4452840"/>
          </a:xfrm>
          <a:prstGeom prst="rect">
            <a:avLst/>
          </a:prstGeom>
          <a:ln w="0">
            <a:noFill/>
          </a:ln>
        </p:spPr>
      </p:pic>
      <p:sp>
        <p:nvSpPr>
          <p:cNvPr id="758" name=""/>
          <p:cNvSpPr/>
          <p:nvPr/>
        </p:nvSpPr>
        <p:spPr>
          <a:xfrm>
            <a:off x="1905120" y="6400800"/>
            <a:ext cx="7238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Verdana"/>
              </a:rPr>
              <a:t>Fuente: U.S. Census Bureau, Foreign Trade Division; Statistics Canada; </a:t>
            </a:r>
            <a:r>
              <a:rPr b="1" lang="es-PE" sz="900" spc="-1" strike="noStrike">
                <a:solidFill>
                  <a:srgbClr val="ffffff"/>
                </a:solidFill>
                <a:latin typeface="Verdana"/>
              </a:rPr>
              <a:t>Secretaría de Economía de Méxic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ESTÁNDARES LABOR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aíses industrializados que respetan estándares laborales altos están en desventaja de costos frente a los que tienen estándares más baj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aíses industrializados y menos desarrollados tienen diferentes estándares laboral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Inadecuada legislación labor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Falta de cumplimiento de la legislación laboral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iferencia de prioridades social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6" dur="indefinite" restart="never" nodeType="tmRoot">
          <p:childTnLst>
            <p:seq>
              <p:cTn id="977" dur="indefinite" nodeType="mainSeq">
                <p:childTnLst>
                  <p:par>
                    <p:cTn id="978" fill="hold">
                      <p:stCondLst>
                        <p:cond delay="0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82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3" fill="hold">
                            <p:stCondLst>
                              <p:cond delay="500"/>
                            </p:stCondLst>
                            <p:childTnLst>
                              <p:par>
                                <p:cTn id="98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86" dur="500"/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7" fill="hold">
                            <p:stCondLst>
                              <p:cond delay="1000"/>
                            </p:stCondLst>
                            <p:childTnLst>
                              <p:par>
                                <p:cTn id="98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90" dur="500"/>
                                        <p:tgtEl>
                                          <p:spTgt spid="7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9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94" dur="500"/>
                                        <p:tgtEl>
                                          <p:spTgt spid="7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5" fill="hold">
                            <p:stCondLst>
                              <p:cond delay="2000"/>
                            </p:stCondLst>
                            <p:childTnLst>
                              <p:par>
                                <p:cTn id="99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98" dur="500"/>
                                        <p:tgtEl>
                                          <p:spTgt spid="7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fill="hold">
                            <p:stCondLst>
                              <p:cond delay="2500"/>
                            </p:stCondLst>
                            <p:childTnLst>
                              <p:par>
                                <p:cTn id="100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02" dur="500"/>
                                        <p:tgtEl>
                                          <p:spTgt spid="7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ESTÁNDARES LABOR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 algn="just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Respeto principios fundamentales OIT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50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el derecho de asociación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el derecho de organizarse y negociar colectivamente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la prohibición del uso de cualquier forma de trabajo forzoso u obligatorio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una edad mínima para el empleo de niños, y la prohibición y eliminación de las peores formas de trabajo infantil; y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condiciones aceptables de trabajo respecto a salarios mínimos, horas de trabajo y seguridad y salud ocupaciona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 algn="just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Cumplimiento de la legislación laboral como compromis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3" dur="indefinite" restart="never" nodeType="tmRoot">
          <p:childTnLst>
            <p:seq>
              <p:cTn id="1004" dur="indefinite" nodeType="mainSeq">
                <p:childTnLst>
                  <p:par>
                    <p:cTn id="1005" fill="hold">
                      <p:stCondLst>
                        <p:cond delay="0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09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7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7" dur="500"/>
                                        <p:tgtEl>
                                          <p:spTgt spid="7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01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1" dur="500"/>
                                        <p:tgtEl>
                                          <p:spTgt spid="7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5" dur="500"/>
                                        <p:tgtEl>
                                          <p:spTgt spid="7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6" fill="hold">
                            <p:stCondLst>
                              <p:cond delay="2500"/>
                            </p:stCondLst>
                            <p:childTnLst>
                              <p:par>
                                <p:cTn id="102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9" dur="500"/>
                                        <p:tgtEl>
                                          <p:spTgt spid="7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3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3" dur="500"/>
                                        <p:tgtEl>
                                          <p:spTgt spid="7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4" fill="hold">
                            <p:stCondLst>
                              <p:cond delay="3500"/>
                            </p:stCondLst>
                            <p:childTnLst>
                              <p:par>
                                <p:cTn id="103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7" dur="500"/>
                                        <p:tgtEl>
                                          <p:spTgt spid="7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SECTOR AGRÍCOL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Comercio agrícola y distorsion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Unión Europea, Japón y Estados Unidos principales países que otorgan subsidios a la exportación y ayudas internas a productos agrícola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Foro de solución TLC u OMC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Qué pasaría si EEUU elimina sus ayudas internas a los productos agrícolas en TLC y no se avanza en negociaciones OMC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8" dur="indefinite" restart="never" nodeType="tmRoot">
          <p:childTnLst>
            <p:seq>
              <p:cTn id="1039" dur="indefinite" nodeType="mainSeq">
                <p:childTnLst>
                  <p:par>
                    <p:cTn id="1040" fill="hold">
                      <p:stCondLst>
                        <p:cond delay="0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44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5" fill="hold">
                            <p:stCondLst>
                              <p:cond delay="500"/>
                            </p:stCondLst>
                            <p:childTnLst>
                              <p:par>
                                <p:cTn id="104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8" dur="500" fill="hold"/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500" fill="hold"/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500" fill="hold"/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500" fill="hold"/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5" dur="500" fill="hold"/>
                                        <p:tgtEl>
                                          <p:spTgt spid="7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500" fill="hold"/>
                                        <p:tgtEl>
                                          <p:spTgt spid="7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500" fill="hold"/>
                                        <p:tgtEl>
                                          <p:spTgt spid="7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500" fill="hold"/>
                                        <p:tgtEl>
                                          <p:spTgt spid="7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2" dur="500" fill="hold"/>
                                        <p:tgtEl>
                                          <p:spTgt spid="7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500" fill="hold"/>
                                        <p:tgtEl>
                                          <p:spTgt spid="7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500" fill="hold"/>
                                        <p:tgtEl>
                                          <p:spTgt spid="7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500" fill="hold"/>
                                        <p:tgtEl>
                                          <p:spTgt spid="7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9" dur="500" fill="hold"/>
                                        <p:tgtEl>
                                          <p:spTgt spid="7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500" fill="hold"/>
                                        <p:tgtEl>
                                          <p:spTgt spid="7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500" fill="hold"/>
                                        <p:tgtEl>
                                          <p:spTgt spid="7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500" fill="hold"/>
                                        <p:tgtEl>
                                          <p:spTgt spid="7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SECTOR AGRÍCOL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Qué cantidad de productos agrícolas americanos ingresan al Perú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De dónde importa productos agrícolas el Perú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0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79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0" fill="hold">
                            <p:stCondLst>
                              <p:cond delay="500"/>
                            </p:stCondLst>
                            <p:childTnLst>
                              <p:par>
                                <p:cTn id="108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3" dur="500"/>
                                        <p:tgtEl>
                                          <p:spTgt spid="7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7" dur="500"/>
                                        <p:tgtEl>
                                          <p:spTgt spid="7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200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STRATEGIA DE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ahoma"/>
              </a:rPr>
              <a:t>Liberalización unilateral gen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cuerdo Multilateral: OMC – Cancú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cumulación de acuerdos regionales y bilater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7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1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5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PROPIEDAD INTELECTU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Relación OMC/TL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Principio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Protección a corto plazo de la propiedad intelectual contribuye  a la innovación técnica y la transferencia de tecnologí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Los conocimientos técnicos deben beneficiar tanto a los productores como a los usuarios y acrecentar el bienestar económico y socia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Medicamentos baratos: limitaciones a licencias obligatorias e importaciones paralela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Qué es biopiratería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El Pisco es peruano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0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94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5" fill="hold">
                            <p:stCondLst>
                              <p:cond delay="500"/>
                            </p:stCondLst>
                            <p:childTnLst>
                              <p:par>
                                <p:cTn id="109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8" dur="500" fill="hold"/>
                                        <p:tgtEl>
                                          <p:spTgt spid="7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500" fill="hold"/>
                                        <p:tgtEl>
                                          <p:spTgt spid="7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3" dur="500" fill="hold"/>
                                        <p:tgtEl>
                                          <p:spTgt spid="7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500" fill="hold"/>
                                        <p:tgtEl>
                                          <p:spTgt spid="7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5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8" dur="500" fill="hold"/>
                                        <p:tgtEl>
                                          <p:spTgt spid="7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500" fill="hold"/>
                                        <p:tgtEl>
                                          <p:spTgt spid="7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3" dur="500" fill="hold"/>
                                        <p:tgtEl>
                                          <p:spTgt spid="7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500" fill="hold"/>
                                        <p:tgtEl>
                                          <p:spTgt spid="7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5" fill="hold">
                            <p:stCondLst>
                              <p:cond delay="2500"/>
                            </p:stCondLst>
                            <p:childTnLst>
                              <p:par>
                                <p:cTn id="111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8" dur="500" fill="hold"/>
                                        <p:tgtEl>
                                          <p:spTgt spid="7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9" dur="500" fill="hold"/>
                                        <p:tgtEl>
                                          <p:spTgt spid="7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2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3" dur="500" fill="hold"/>
                                        <p:tgtEl>
                                          <p:spTgt spid="7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500" fill="hold"/>
                                        <p:tgtEl>
                                          <p:spTgt spid="7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5" fill="hold">
                            <p:stCondLst>
                              <p:cond delay="3500"/>
                            </p:stCondLst>
                            <p:childTnLst>
                              <p:par>
                                <p:cTn id="112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8" dur="500" fill="hold"/>
                                        <p:tgtEl>
                                          <p:spTgt spid="7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500" fill="hold"/>
                                        <p:tgtEl>
                                          <p:spTgt spid="7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COMPRAS GUBERNAMENT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Filosofía proteccionista: nuestro dinero debe ser gastado en nuestras mercaderías para asegurar nuestro trabaj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1970: Presupuestos de los gobiernos aumentaron por salud, educación y pension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ubir impuestos / Reducir cost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Estimularon la competencia entre proveedores del Estado en sus licitaciones por compras estatales y permitieron el ingreso de proveedores extranjero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0" dur="indefinite" restart="never" nodeType="tmRoot">
          <p:childTnLst>
            <p:seq>
              <p:cTn id="1131" dur="indefinite" nodeType="mainSeq">
                <p:childTnLst>
                  <p:par>
                    <p:cTn id="1132" fill="hold">
                      <p:stCondLst>
                        <p:cond delay="0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36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13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40" dur="500"/>
                                        <p:tgtEl>
                                          <p:spTgt spid="7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44" dur="500"/>
                                        <p:tgtEl>
                                          <p:spTgt spid="7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5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48" dur="500"/>
                                        <p:tgtEl>
                                          <p:spTgt spid="7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52" dur="500"/>
                                        <p:tgtEl>
                                          <p:spTgt spid="7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COMPRAS GUBERNAMENT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Preferencias sectoriales vs. Menor gasto estatal (menores impuestos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Corrupción vs. No - discrimina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3" dur="indefinite" restart="never" nodeType="tmRoot">
          <p:childTnLst>
            <p:seq>
              <p:cTn id="1154" dur="indefinite" nodeType="mainSeq">
                <p:childTnLst>
                  <p:par>
                    <p:cTn id="1155" fill="hold">
                      <p:stCondLst>
                        <p:cond delay="0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59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16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63" dur="500"/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67" dur="500"/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FORMAS Y APERTURA COMERCIAL EN LOS 90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4219200" y="226692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44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219200" y="255420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30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219200" y="280656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37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19200" y="305748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46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84880" y="4335480"/>
            <a:ext cx="1544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Tahoma"/>
              </a:rPr>
              <a:t>Fuente: Rossini (1991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27360" y="1906560"/>
            <a:ext cx="339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dde5"/>
                </a:solidFill>
                <a:latin typeface="Tahoma"/>
              </a:rPr>
              <a:t>Estructura de Protección (Julio 1990</a:t>
            </a:r>
            <a:r>
              <a:rPr b="0" lang="es-MX" sz="1400" spc="-1" strike="noStrike">
                <a:solidFill>
                  <a:srgbClr val="ffdde5"/>
                </a:solidFill>
                <a:latin typeface="Tahoma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64280" y="2266920"/>
            <a:ext cx="263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Promedio ponderado arance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08920" y="2554200"/>
            <a:ext cx="181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Bienes de consum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440" y="280656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Insum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21880" y="3057480"/>
            <a:ext cx="159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Bienes de capit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15760" y="3346560"/>
            <a:ext cx="256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Promedio simple arancel (%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219200" y="334656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66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96320" y="3633840"/>
            <a:ext cx="181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Partidas prohibid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204080" y="363384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53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93440" y="3957480"/>
            <a:ext cx="191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Partidas restringid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204080" y="395748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53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98560" y="2554200"/>
            <a:ext cx="377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98560" y="3633840"/>
            <a:ext cx="377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98560" y="3957480"/>
            <a:ext cx="377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4500720" y="3940200"/>
          <a:ext cx="4581360" cy="287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940200"/>
                    <a:ext cx="4581360" cy="28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"/>
          <p:cNvSpPr/>
          <p:nvPr/>
        </p:nvSpPr>
        <p:spPr>
          <a:xfrm>
            <a:off x="5078520" y="3508200"/>
            <a:ext cx="388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dde5"/>
                </a:solidFill>
                <a:latin typeface="Tahoma"/>
              </a:rPr>
              <a:t>Evolución del Promedio Arancelari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153120" y="4641840"/>
            <a:ext cx="2050920" cy="1008000"/>
          </a:xfrm>
          <a:prstGeom prst="line">
            <a:avLst/>
          </a:prstGeom>
          <a:ln w="76320">
            <a:solidFill>
              <a:srgbClr val="ff996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L PROTECCIONISMO ES RECESIVO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46" name=""/>
          <p:cNvSpPr/>
          <p:nvPr/>
        </p:nvSpPr>
        <p:spPr>
          <a:xfrm>
            <a:off x="2881440" y="294948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ahoma"/>
              </a:rPr>
              <a:t>1980 - 198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429440" y="294948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ahoma"/>
              </a:rPr>
              <a:t>1985 - 199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972040" y="2949480"/>
            <a:ext cx="1046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ahoma"/>
              </a:rPr>
              <a:t>1990 -199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560000" y="294948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ahoma"/>
              </a:rPr>
              <a:t>1995 - 2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181880" y="4389480"/>
            <a:ext cx="32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PB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346560" y="4389480"/>
            <a:ext cx="718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0.4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894200" y="4389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1.9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440400" y="4389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5.49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024760" y="4389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.51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132560" y="4786200"/>
            <a:ext cx="1294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Agropecuar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346560" y="4786200"/>
            <a:ext cx="718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.7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894200" y="478620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0.9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440400" y="478620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4.27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024760" y="478620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5.94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9840" y="5181480"/>
            <a:ext cx="726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Minerí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346560" y="5181480"/>
            <a:ext cx="718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0.7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894200" y="5181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7.6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440400" y="5181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6.09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024760" y="5181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6.57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132560" y="5576760"/>
            <a:ext cx="1227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Manufactur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346560" y="5576760"/>
            <a:ext cx="718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2.1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894200" y="557676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1.7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440400" y="557676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5.32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024760" y="557676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.09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70480" y="6297480"/>
            <a:ext cx="2448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Tahoma"/>
              </a:rPr>
              <a:t>Fuente: INEI. 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696040" y="2209680"/>
            <a:ext cx="3969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ffffff"/>
                </a:solidFill>
                <a:latin typeface="Tahoma"/>
              </a:rPr>
              <a:t>CRECIMIENTO PROMEDIO ANUAL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943440" y="2587680"/>
            <a:ext cx="1474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ffffff"/>
                </a:solidFill>
                <a:latin typeface="Tahoma"/>
              </a:rPr>
              <a:t>POR SECTOR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114560" y="3238560"/>
            <a:ext cx="773748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114560" y="5973840"/>
            <a:ext cx="773748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119960" y="3417840"/>
            <a:ext cx="17031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Arancel promed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(fin de periodo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46560" y="3598920"/>
            <a:ext cx="71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63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894200" y="359892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66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40400" y="359892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16.3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8024760" y="359892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13.5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103040" y="3994200"/>
            <a:ext cx="2135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Dispersión arancelar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346560" y="3994200"/>
            <a:ext cx="71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894200" y="399420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440400" y="399420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3.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8024760" y="399420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3.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500"/>
                            </p:stCondLst>
                            <p:childTnLst>
                              <p:par>
                                <p:cTn id="1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3000"/>
                            </p:stCondLst>
                            <p:childTnLst>
                              <p:par>
                                <p:cTn id="1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3500"/>
                            </p:stCondLst>
                            <p:childTnLst>
                              <p:par>
                                <p:cTn id="1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4000"/>
                            </p:stCondLst>
                            <p:childTnLst>
                              <p:par>
                                <p:cTn id="1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45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0"/>
                            </p:stCondLst>
                            <p:childTnLst>
                              <p:par>
                                <p:cTn id="2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5500"/>
                            </p:stCondLst>
                            <p:childTnLst>
                              <p:par>
                                <p:cTn id="2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6000"/>
                            </p:stCondLst>
                            <p:childTnLst>
                              <p:par>
                                <p:cTn id="24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86" name=""/>
          <p:cNvSpPr/>
          <p:nvPr/>
        </p:nvSpPr>
        <p:spPr>
          <a:xfrm>
            <a:off x="826920" y="6297480"/>
            <a:ext cx="31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ffffff"/>
                </a:solidFill>
                <a:latin typeface="Tahoma"/>
              </a:rPr>
              <a:t>Fuente: SUNAT. </a:t>
            </a: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1946160" y="2027160"/>
            <a:ext cx="6784920" cy="2863800"/>
            <a:chOff x="1946160" y="2027160"/>
            <a:chExt cx="6784920" cy="2863800"/>
          </a:xfrm>
        </p:grpSpPr>
        <p:sp>
          <p:nvSpPr>
            <p:cNvPr id="188" name=""/>
            <p:cNvSpPr/>
            <p:nvPr/>
          </p:nvSpPr>
          <p:spPr>
            <a:xfrm>
              <a:off x="2112840" y="4116240"/>
              <a:ext cx="14400" cy="10656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127240" y="4116240"/>
              <a:ext cx="15840" cy="10656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143080" y="4116240"/>
              <a:ext cx="14400" cy="1065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157480" y="4116240"/>
              <a:ext cx="15840" cy="10656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173320" y="4116240"/>
              <a:ext cx="15840" cy="1065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189160" y="4116240"/>
              <a:ext cx="14400" cy="1065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203560" y="4116240"/>
              <a:ext cx="29880" cy="10656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233440" y="4116240"/>
              <a:ext cx="16200" cy="1065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249640" y="4116240"/>
              <a:ext cx="14040" cy="1065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263680" y="4116240"/>
              <a:ext cx="15840" cy="10656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279520" y="4116240"/>
              <a:ext cx="14400" cy="1065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127240" y="4132440"/>
              <a:ext cx="19836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598840" y="4208400"/>
              <a:ext cx="14040" cy="1440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612880" y="4208400"/>
              <a:ext cx="16200" cy="14400"/>
            </a:xfrm>
            <a:prstGeom prst="rect">
              <a:avLst/>
            </a:prstGeom>
            <a:solidFill>
              <a:srgbClr val="b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629080" y="4208400"/>
              <a:ext cx="14040" cy="144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643120" y="4208400"/>
              <a:ext cx="15840" cy="144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658960" y="4208400"/>
              <a:ext cx="14400" cy="144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673360" y="4208400"/>
              <a:ext cx="15840" cy="144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689200" y="4208400"/>
              <a:ext cx="15840" cy="144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705040" y="4208400"/>
              <a:ext cx="14400" cy="144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719440" y="4208400"/>
              <a:ext cx="15840" cy="144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735280" y="4208400"/>
              <a:ext cx="14400" cy="144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749680" y="4208400"/>
              <a:ext cx="15840" cy="144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612880" y="4222800"/>
              <a:ext cx="182880" cy="1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068640" y="4222800"/>
              <a:ext cx="15840" cy="4608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084480" y="4222800"/>
              <a:ext cx="14400" cy="4608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098880" y="4222800"/>
              <a:ext cx="15840" cy="4608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114720" y="4222800"/>
              <a:ext cx="14400" cy="4608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129120" y="4222800"/>
              <a:ext cx="15840" cy="4608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144960" y="4222800"/>
              <a:ext cx="14040" cy="4608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159000" y="4222800"/>
              <a:ext cx="30240" cy="4608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189240" y="4222800"/>
              <a:ext cx="15840" cy="4608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205080" y="4222800"/>
              <a:ext cx="15840" cy="4608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220920" y="4222800"/>
              <a:ext cx="14400" cy="4608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235320" y="4222800"/>
              <a:ext cx="15840" cy="4608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84480" y="4238640"/>
              <a:ext cx="196920" cy="4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554280" y="4222800"/>
              <a:ext cx="14400" cy="10620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568680" y="4222800"/>
              <a:ext cx="15840" cy="10620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584520" y="4222800"/>
              <a:ext cx="15840" cy="10620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600360" y="4222800"/>
              <a:ext cx="14400" cy="10620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614760" y="4222800"/>
              <a:ext cx="15840" cy="10620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630600" y="4222800"/>
              <a:ext cx="14400" cy="10620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645000" y="4222800"/>
              <a:ext cx="30240" cy="10620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675240" y="4222800"/>
              <a:ext cx="15840" cy="10620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691080" y="4222800"/>
              <a:ext cx="14040" cy="10620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705120" y="4222800"/>
              <a:ext cx="15840" cy="10620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720960" y="4222800"/>
              <a:ext cx="15840" cy="10620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568680" y="4238640"/>
              <a:ext cx="19836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040280" y="4222800"/>
              <a:ext cx="14040" cy="16668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054320" y="4222800"/>
              <a:ext cx="16200" cy="16668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070520" y="4222800"/>
              <a:ext cx="14040" cy="16668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84560" y="4222800"/>
              <a:ext cx="15840" cy="16668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100400" y="4222800"/>
              <a:ext cx="15840" cy="16668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116240" y="4222800"/>
              <a:ext cx="14400" cy="16668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130640" y="4222800"/>
              <a:ext cx="30240" cy="16668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160880" y="4222800"/>
              <a:ext cx="15840" cy="16668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176720" y="4222800"/>
              <a:ext cx="14400" cy="16668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91120" y="4222800"/>
              <a:ext cx="15840" cy="16668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206960" y="4222800"/>
              <a:ext cx="15840" cy="16668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054320" y="4238640"/>
              <a:ext cx="198720" cy="1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525920" y="4222800"/>
              <a:ext cx="14400" cy="34920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540320" y="4222800"/>
              <a:ext cx="15840" cy="349200"/>
            </a:xfrm>
            <a:prstGeom prst="rect">
              <a:avLst/>
            </a:prstGeom>
            <a:solidFill>
              <a:srgbClr val="b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556160" y="4222800"/>
              <a:ext cx="14400" cy="3492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570560" y="4222800"/>
              <a:ext cx="15840" cy="3492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586400" y="4222800"/>
              <a:ext cx="14040" cy="3492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600440" y="4222800"/>
              <a:ext cx="15840" cy="3492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616280" y="4222800"/>
              <a:ext cx="16200" cy="3492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632480" y="4222800"/>
              <a:ext cx="14040" cy="3492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646520" y="4222800"/>
              <a:ext cx="15840" cy="3492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662360" y="4222800"/>
              <a:ext cx="14400" cy="3492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676760" y="4222800"/>
              <a:ext cx="15840" cy="3492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540320" y="4238640"/>
              <a:ext cx="18252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995720" y="4222800"/>
              <a:ext cx="15840" cy="31896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011560" y="4222800"/>
              <a:ext cx="14400" cy="31896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025960" y="4222800"/>
              <a:ext cx="15840" cy="3189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041800" y="4222800"/>
              <a:ext cx="14400" cy="31896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056200" y="4222800"/>
              <a:ext cx="15840" cy="3189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072040" y="4222800"/>
              <a:ext cx="14400" cy="3189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086440" y="4222800"/>
              <a:ext cx="31680" cy="31896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118120" y="4222800"/>
              <a:ext cx="14400" cy="3189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132520" y="4222800"/>
              <a:ext cx="15840" cy="3189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148360" y="4222800"/>
              <a:ext cx="14040" cy="31896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162400" y="4222800"/>
              <a:ext cx="16200" cy="3189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011560" y="4238640"/>
              <a:ext cx="1969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481720" y="4222800"/>
              <a:ext cx="14040" cy="25704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95760" y="4222800"/>
              <a:ext cx="16200" cy="2570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511960" y="4222800"/>
              <a:ext cx="15840" cy="25704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527800" y="4222800"/>
              <a:ext cx="14040" cy="25704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541840" y="4222800"/>
              <a:ext cx="15840" cy="25704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557680" y="4222800"/>
              <a:ext cx="14400" cy="257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572080" y="4222800"/>
              <a:ext cx="30240" cy="257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602320" y="4222800"/>
              <a:ext cx="15840" cy="257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618160" y="4222800"/>
              <a:ext cx="15840" cy="25704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634000" y="4222800"/>
              <a:ext cx="14400" cy="25704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648400" y="4222800"/>
              <a:ext cx="15840" cy="25704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495760" y="4238640"/>
              <a:ext cx="19872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967360" y="4222800"/>
              <a:ext cx="14400" cy="37944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981760" y="4222800"/>
              <a:ext cx="15840" cy="379440"/>
            </a:xfrm>
            <a:prstGeom prst="rect">
              <a:avLst/>
            </a:prstGeom>
            <a:solidFill>
              <a:srgbClr val="b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997600" y="4222800"/>
              <a:ext cx="15840" cy="37944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013440" y="4222800"/>
              <a:ext cx="14400" cy="37944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027840" y="4222800"/>
              <a:ext cx="15840" cy="37944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043680" y="4222800"/>
              <a:ext cx="14400" cy="37944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058080" y="4222800"/>
              <a:ext cx="15840" cy="3794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073920" y="4222800"/>
              <a:ext cx="14040" cy="37944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087960" y="4222800"/>
              <a:ext cx="15840" cy="37944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103800" y="4222800"/>
              <a:ext cx="14400" cy="37944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118200" y="4222800"/>
              <a:ext cx="15840" cy="37944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981760" y="4238640"/>
              <a:ext cx="18252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437160" y="4222800"/>
              <a:ext cx="16200" cy="12204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453360" y="4222800"/>
              <a:ext cx="14040" cy="1220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467400" y="4222800"/>
              <a:ext cx="15840" cy="12204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483240" y="4222800"/>
              <a:ext cx="14400" cy="12204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497640" y="4222800"/>
              <a:ext cx="15840" cy="12204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513480" y="4222800"/>
              <a:ext cx="15840" cy="122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529320" y="4222800"/>
              <a:ext cx="30240" cy="122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559560" y="4222800"/>
              <a:ext cx="14400" cy="122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573960" y="4222800"/>
              <a:ext cx="15840" cy="12204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589800" y="4222800"/>
              <a:ext cx="14040" cy="12204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603840" y="4222800"/>
              <a:ext cx="16200" cy="12204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453360" y="4238640"/>
              <a:ext cx="196560" cy="1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923160" y="4222800"/>
              <a:ext cx="15840" cy="9036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939000" y="4222800"/>
              <a:ext cx="14400" cy="9036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953400" y="4222800"/>
              <a:ext cx="15840" cy="903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969240" y="4222800"/>
              <a:ext cx="14040" cy="9036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983280" y="4222800"/>
              <a:ext cx="15840" cy="903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999120" y="4222800"/>
              <a:ext cx="14400" cy="903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013520" y="4222800"/>
              <a:ext cx="31680" cy="9036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045200" y="4222800"/>
              <a:ext cx="14400" cy="903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059600" y="4222800"/>
              <a:ext cx="15840" cy="903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075440" y="4222800"/>
              <a:ext cx="14400" cy="9036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089840" y="4222800"/>
              <a:ext cx="15840" cy="903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939000" y="4238640"/>
              <a:ext cx="196920" cy="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408800" y="4222800"/>
              <a:ext cx="15840" cy="6012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424640" y="4222800"/>
              <a:ext cx="14400" cy="6012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439040" y="4222800"/>
              <a:ext cx="15840" cy="6012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454880" y="4222800"/>
              <a:ext cx="14400" cy="6012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469280" y="4222800"/>
              <a:ext cx="15840" cy="6012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485120" y="4222800"/>
              <a:ext cx="14400" cy="6012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499520" y="4222800"/>
              <a:ext cx="29880" cy="6012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529400" y="4222800"/>
              <a:ext cx="15840" cy="6012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545240" y="4222800"/>
              <a:ext cx="16200" cy="6012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561440" y="4222800"/>
              <a:ext cx="14040" cy="6012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575480" y="4222800"/>
              <a:ext cx="15840" cy="6012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424640" y="4238640"/>
              <a:ext cx="196920" cy="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894800" y="4208400"/>
              <a:ext cx="14040" cy="1440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908840" y="4208400"/>
              <a:ext cx="15840" cy="14400"/>
            </a:xfrm>
            <a:prstGeom prst="rect">
              <a:avLst/>
            </a:prstGeom>
            <a:solidFill>
              <a:srgbClr val="b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924680" y="4208400"/>
              <a:ext cx="15840" cy="144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940520" y="4208400"/>
              <a:ext cx="14400" cy="144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954920" y="4208400"/>
              <a:ext cx="15840" cy="144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970760" y="4208400"/>
              <a:ext cx="14400" cy="144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985160" y="4208400"/>
              <a:ext cx="15840" cy="144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001000" y="4208400"/>
              <a:ext cx="14400" cy="144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8015400" y="4208400"/>
              <a:ext cx="15840" cy="144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8031240" y="4208400"/>
              <a:ext cx="14040" cy="144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8045280" y="4208400"/>
              <a:ext cx="16200" cy="144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908840" y="4222800"/>
              <a:ext cx="182520" cy="1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364600" y="4146480"/>
              <a:ext cx="15840" cy="7632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380440" y="4146480"/>
              <a:ext cx="14400" cy="7632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394840" y="4146480"/>
              <a:ext cx="15840" cy="7632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410680" y="4146480"/>
              <a:ext cx="14040" cy="7632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8424720" y="4146480"/>
              <a:ext cx="15840" cy="7632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8440560" y="4146480"/>
              <a:ext cx="16200" cy="7632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8456760" y="4146480"/>
              <a:ext cx="29880" cy="7632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8486640" y="4146480"/>
              <a:ext cx="14400" cy="7632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8501040" y="4146480"/>
              <a:ext cx="15840" cy="7632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8516880" y="4146480"/>
              <a:ext cx="14400" cy="7632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531280" y="4146480"/>
              <a:ext cx="15840" cy="7632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8380440" y="4162320"/>
              <a:ext cx="1969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990800" y="2617920"/>
              <a:ext cx="1440" cy="2271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946160" y="488952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946160" y="457200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946160" y="423864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946160" y="391968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946160" y="358632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946160" y="326880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946160" y="293544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946160" y="261792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990800" y="4238640"/>
              <a:ext cx="67388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199080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247644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 flipV="1">
              <a:off x="294804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343224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391788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440388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487512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535932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 flipV="1">
              <a:off x="584532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631656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 flipV="1">
              <a:off x="680256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 flipV="1">
              <a:off x="728820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777240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 flipV="1">
              <a:off x="824400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 flipV="1">
              <a:off x="872964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233440" y="2784600"/>
              <a:ext cx="6253200" cy="923760"/>
            </a:xfrm>
            <a:custGeom>
              <a:avLst/>
              <a:gdLst/>
              <a:ahLst/>
              <a:rect l="l" t="t" r="r" b="b"/>
              <a:pathLst>
                <a:path w="412" h="61">
                  <a:moveTo>
                    <a:pt x="0" y="61"/>
                  </a:moveTo>
                  <a:lnTo>
                    <a:pt x="32" y="60"/>
                  </a:lnTo>
                  <a:lnTo>
                    <a:pt x="63" y="58"/>
                  </a:lnTo>
                  <a:lnTo>
                    <a:pt x="95" y="60"/>
                  </a:lnTo>
                  <a:lnTo>
                    <a:pt x="127" y="49"/>
                  </a:lnTo>
                  <a:lnTo>
                    <a:pt x="158" y="38"/>
                  </a:lnTo>
                  <a:lnTo>
                    <a:pt x="190" y="33"/>
                  </a:lnTo>
                  <a:lnTo>
                    <a:pt x="222" y="24"/>
                  </a:lnTo>
                  <a:lnTo>
                    <a:pt x="254" y="35"/>
                  </a:lnTo>
                  <a:lnTo>
                    <a:pt x="285" y="31"/>
                  </a:lnTo>
                  <a:lnTo>
                    <a:pt x="317" y="22"/>
                  </a:lnTo>
                  <a:lnTo>
                    <a:pt x="349" y="22"/>
                  </a:lnTo>
                  <a:lnTo>
                    <a:pt x="380" y="14"/>
                  </a:lnTo>
                  <a:lnTo>
                    <a:pt x="412" y="0"/>
                  </a:lnTo>
                </a:path>
              </a:pathLst>
            </a:custGeom>
            <a:noFill/>
            <a:ln w="460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233440" y="2874960"/>
              <a:ext cx="6253200" cy="954000"/>
            </a:xfrm>
            <a:custGeom>
              <a:avLst/>
              <a:gdLst/>
              <a:ahLst/>
              <a:rect l="l" t="t" r="r" b="b"/>
              <a:pathLst>
                <a:path w="412" h="63">
                  <a:moveTo>
                    <a:pt x="0" y="63"/>
                  </a:moveTo>
                  <a:lnTo>
                    <a:pt x="32" y="56"/>
                  </a:lnTo>
                  <a:lnTo>
                    <a:pt x="63" y="50"/>
                  </a:lnTo>
                  <a:lnTo>
                    <a:pt x="95" y="47"/>
                  </a:lnTo>
                  <a:lnTo>
                    <a:pt x="127" y="32"/>
                  </a:lnTo>
                  <a:lnTo>
                    <a:pt x="158" y="9"/>
                  </a:lnTo>
                  <a:lnTo>
                    <a:pt x="190" y="7"/>
                  </a:lnTo>
                  <a:lnTo>
                    <a:pt x="222" y="0"/>
                  </a:lnTo>
                  <a:lnTo>
                    <a:pt x="254" y="4"/>
                  </a:lnTo>
                  <a:lnTo>
                    <a:pt x="285" y="18"/>
                  </a:lnTo>
                  <a:lnTo>
                    <a:pt x="317" y="10"/>
                  </a:lnTo>
                  <a:lnTo>
                    <a:pt x="349" y="11"/>
                  </a:lnTo>
                  <a:lnTo>
                    <a:pt x="380" y="9"/>
                  </a:lnTo>
                  <a:lnTo>
                    <a:pt x="412" y="0"/>
                  </a:lnTo>
                </a:path>
              </a:pathLst>
            </a:custGeom>
            <a:noFill/>
            <a:ln w="4608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490920" y="2027160"/>
              <a:ext cx="2718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Tahoma"/>
                </a:rPr>
                <a:t>PERU : INTERNATIONAL TRAD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442760" y="2254320"/>
              <a:ext cx="1027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Tahoma"/>
                </a:rPr>
                <a:t>US$ Millon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059560" y="3844800"/>
              <a:ext cx="24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Tahoma"/>
                </a:rPr>
                <a:t>686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545560" y="3935520"/>
              <a:ext cx="24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Tahoma"/>
                </a:rPr>
                <a:t>147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996280" y="4359240"/>
              <a:ext cx="328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Tahoma"/>
                </a:rPr>
                <a:t>(221)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8" name=""/>
          <p:cNvSpPr/>
          <p:nvPr/>
        </p:nvSpPr>
        <p:spPr>
          <a:xfrm>
            <a:off x="3482280" y="4419720"/>
            <a:ext cx="328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679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891960" y="447984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1,049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333400" y="457200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1,591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365160" y="4435560"/>
            <a:ext cx="328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691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6850800" y="4405320"/>
            <a:ext cx="328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558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841520" y="393552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136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8312760" y="387504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484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317480" y="476892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2,135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923720" y="479916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1,925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336800" y="4375080"/>
            <a:ext cx="328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387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941440" y="473868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2,358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182600" y="4782960"/>
            <a:ext cx="538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(4,000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182600" y="4465800"/>
            <a:ext cx="538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(2,000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592280" y="4132440"/>
            <a:ext cx="9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254600" y="3814920"/>
            <a:ext cx="425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2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254600" y="3481560"/>
            <a:ext cx="425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4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254600" y="3162240"/>
            <a:ext cx="425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6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254600" y="2828880"/>
            <a:ext cx="425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8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139040" y="2511360"/>
            <a:ext cx="520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10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rot="18900000">
            <a:off x="17571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rot="18900000">
            <a:off x="224280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1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rot="18900000">
            <a:off x="271440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2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rot="18900000">
            <a:off x="319860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3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rot="18900000">
            <a:off x="368424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4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 rot="18900000">
            <a:off x="415584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5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rot="18900000">
            <a:off x="464148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6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rot="18900000">
            <a:off x="512712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7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 rot="18900000">
            <a:off x="561132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8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 rot="18900000">
            <a:off x="608292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9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 rot="18900000">
            <a:off x="65685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2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rot="18900000">
            <a:off x="70545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2001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rot="18900000">
            <a:off x="75243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2002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 rot="18900000">
            <a:off x="80103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2003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920960" y="5614920"/>
            <a:ext cx="108000" cy="90720"/>
          </a:xfrm>
          <a:prstGeom prst="rect">
            <a:avLst/>
          </a:prstGeom>
          <a:solidFill>
            <a:srgbClr val="a98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028960" y="5614920"/>
            <a:ext cx="179280" cy="90720"/>
          </a:xfrm>
          <a:prstGeom prst="rect">
            <a:avLst/>
          </a:prstGeom>
          <a:solidFill>
            <a:srgbClr val="f6c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2406960" y="5556240"/>
            <a:ext cx="13388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TRADE BALANC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4813200" y="5646600"/>
            <a:ext cx="409680" cy="1800"/>
          </a:xfrm>
          <a:prstGeom prst="line">
            <a:avLst/>
          </a:prstGeom>
          <a:ln w="46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290920" y="5556240"/>
            <a:ext cx="732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EXPORT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983280" y="5646600"/>
            <a:ext cx="409680" cy="1800"/>
          </a:xfrm>
          <a:prstGeom prst="line">
            <a:avLst/>
          </a:prstGeom>
          <a:ln w="46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7458120" y="5556240"/>
            <a:ext cx="750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IMPORT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73320" y="5614920"/>
            <a:ext cx="108000" cy="90720"/>
          </a:xfrm>
          <a:prstGeom prst="rect">
            <a:avLst/>
          </a:prstGeom>
          <a:solidFill>
            <a:srgbClr val="a98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9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500"/>
                            </p:stCondLst>
                            <p:childTnLst>
                              <p:par>
                                <p:cTn id="26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04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07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3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6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9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2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5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8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31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34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2500"/>
                            </p:stCondLst>
                            <p:childTnLst>
                              <p:par>
                                <p:cTn id="33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8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1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4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7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0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3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6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9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2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5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8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1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4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7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3000"/>
                            </p:stCondLst>
                            <p:childTnLst>
                              <p:par>
                                <p:cTn id="37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1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4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7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45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3500"/>
                            </p:stCondLst>
                            <p:childTnLst>
                              <p:par>
                                <p:cTn id="39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97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45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4000"/>
                            </p:stCondLst>
                            <p:childTnLst>
                              <p:par>
                                <p:cTn id="40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07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45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4500"/>
                            </p:stCondLst>
                            <p:childTnLst>
                              <p:par>
                                <p:cTn id="41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5200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30" name=""/>
          <p:cNvSpPr/>
          <p:nvPr/>
        </p:nvSpPr>
        <p:spPr>
          <a:xfrm>
            <a:off x="826920" y="6297480"/>
            <a:ext cx="31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ffffff"/>
                </a:solidFill>
                <a:latin typeface="Tahoma"/>
              </a:rPr>
              <a:t>Fuente: SUNAT. </a:t>
            </a: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1"/>
          <a:stretch/>
        </p:blipFill>
        <p:spPr>
          <a:xfrm>
            <a:off x="971640" y="1835280"/>
            <a:ext cx="7592760" cy="42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0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4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500"/>
                            </p:stCondLst>
                            <p:childTnLst>
                              <p:par>
                                <p:cTn id="42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8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1000"/>
                            </p:stCondLst>
                            <p:childTnLst>
                              <p:par>
                                <p:cTn id="43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2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25092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33" name=""/>
          <p:cNvGraphicFramePr/>
          <p:nvPr/>
        </p:nvGraphicFramePr>
        <p:xfrm>
          <a:off x="971640" y="1835280"/>
          <a:ext cx="7592760" cy="4282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835280"/>
                    <a:ext cx="7592760" cy="42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5" name=""/>
          <p:cNvSpPr/>
          <p:nvPr/>
        </p:nvSpPr>
        <p:spPr>
          <a:xfrm>
            <a:off x="826920" y="6297480"/>
            <a:ext cx="31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Fuente: BCRP. 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39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500"/>
                            </p:stCondLst>
                            <p:childTnLst>
                              <p:par>
                                <p:cTn id="441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43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4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7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Comparación entre Chile, Colombia y Perú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graphicFrame>
        <p:nvGraphicFramePr>
          <p:cNvPr id="437" name=""/>
          <p:cNvGraphicFramePr/>
          <p:nvPr/>
        </p:nvGraphicFramePr>
        <p:xfrm>
          <a:off x="4724280" y="1779480"/>
          <a:ext cx="4135680" cy="2608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1779480"/>
                    <a:ext cx="4135680" cy="260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9" name=""/>
          <p:cNvSpPr/>
          <p:nvPr/>
        </p:nvSpPr>
        <p:spPr>
          <a:xfrm>
            <a:off x="6781680" y="4365720"/>
            <a:ext cx="259092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Fuente: Penn World Table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Método: Precios constantes en %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987840" y="6338880"/>
            <a:ext cx="2247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Fuente: CEPAL. 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1" name="" descr=""/>
          <p:cNvPicPr/>
          <p:nvPr/>
        </p:nvPicPr>
        <p:blipFill>
          <a:blip r:embed="rId3"/>
          <a:stretch/>
        </p:blipFill>
        <p:spPr>
          <a:xfrm>
            <a:off x="762120" y="3649680"/>
            <a:ext cx="4647960" cy="27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5T16:13:51Z</dcterms:created>
  <dc:creator>jore</dc:creator>
  <dc:description/>
  <dc:language>en-US</dc:language>
  <cp:lastModifiedBy>jore</cp:lastModifiedBy>
  <dcterms:modified xsi:type="dcterms:W3CDTF">2004-08-13T15:23:01Z</dcterms:modified>
  <cp:revision>657</cp:revision>
  <dc:subject/>
  <dc:title>COMEXPERU Presentación Instituciona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920418868</vt:r8>
  </property>
  <property fmtid="{D5CDD505-2E9C-101B-9397-08002B2CF9AE}" pid="3" name="_AuthorEmail">
    <vt:lpwstr>jore@comexperu.org.pe</vt:lpwstr>
  </property>
  <property fmtid="{D5CDD505-2E9C-101B-9397-08002B2CF9AE}" pid="4" name="_AuthorEmailDisplayName">
    <vt:lpwstr>Juan Carlos Ore</vt:lpwstr>
  </property>
  <property fmtid="{D5CDD505-2E9C-101B-9397-08002B2CF9AE}" pid="5" name="_EmailSubject">
    <vt:lpwstr>web</vt:lpwstr>
  </property>
  <property fmtid="{D5CDD505-2E9C-101B-9397-08002B2CF9AE}" pid="6" name="_PreviousAdHocReviewCycleID">
    <vt:r8>-768413957</vt:r8>
  </property>
</Properties>
</file>